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841-1061-408F-9170-AD36019A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3A8-59D8-423F-97BC-C7E5F57A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941-CABF-4B6E-96BE-67255BC53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1DD-5C9F-4B81-B041-2F7671B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0B3-4A3E-4793-BB88-70837DE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F3C-6A8B-4420-B78B-66E07594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AF6-C61E-4750-8726-8EC8FE2F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3EB-1559-4DD8-8B1A-B9843850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A49-8A28-4601-8240-59D8B948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01B-6BA1-49EF-8958-F1B9CE1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D15-D868-4E69-935A-0D17744B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D38-5E29-4F0B-B002-87A478B4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A20A-5A6B-42B5-99B8-290B476EB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800" spc="-1" strike="noStrike">
                <a:solidFill>
                  <a:srgbClr val="ffff00"/>
                </a:solidFill>
                <a:latin typeface="Pristina"/>
              </a:rPr>
              <a:t>Poetry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Pristina"/>
              </a:rPr>
              <a:t>What is Poetry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Poetry is written in stanzas (verses) that engage the reader through imagery, repetition, humor, rhyming, patterns, and rhyth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Sans Serif"/>
                <a:ea typeface="Microsoft Sans Serif"/>
              </a:rPr>
              <a:t>There are many different ways to write poe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00"/>
                </a:solidFill>
                <a:latin typeface="Pristina"/>
              </a:rPr>
              <a:t>Imagery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1430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uthor uses language that allows the reader to create a clear, detailed images in their minds as they r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ry is created through comparing objects or describing objects by using the five sen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5105520" y="533520"/>
            <a:ext cx="3733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My Sno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By Neal Le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My snowman had a lemon nose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And lemons for his ears.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is eyes were made of lemon slices,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air of lemon sp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His teeth were candy lemon drops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That smiled in the shade,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But then the sun came out and turned him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Abscissa"/>
                <a:ea typeface="Times New Roman"/>
              </a:rPr>
              <a:t>Into lemon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00"/>
                </a:solidFill>
                <a:latin typeface="Pristina"/>
              </a:rPr>
              <a:t>Narrative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poems tell a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ory may be fiction or non-f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486400" y="609480"/>
          <a:ext cx="3124080" cy="548640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71528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 pricked her thumb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tarted feeling overcom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Probably she would have 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as the witch had prophesied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but the fairies had her ble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o she just got beauty re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For a hundred fifty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missed balls and film premiere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till Prince Charming came a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inging out a cheerful so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Kneeling down he kissed her ch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hoping that she'd wake and spea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leeping Beauty raised an 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reaching for the snooze al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and her waking words were the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"Just need five more minutes please.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--Kenn Nesbi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419720" y="1143000"/>
            <a:ext cx="441936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Pristina"/>
              </a:rPr>
              <a:t>Free Vers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9528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kind of poetry that has no real rhythm or pattern, so you can put words together in all sorts of way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 verse poetry allows the writer to be freely creative with their po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419720" y="1143000"/>
            <a:ext cx="4419360" cy="4757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utumn</a:t>
            </a:r>
            <a:br>
              <a:rPr sz="1800"/>
            </a:br>
            <a:r>
              <a:rPr b="1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y Fern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lowing bris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Leaves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We r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Colored l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B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P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70c0"/>
                </a:solidFill>
                <a:latin typeface="Abscissa"/>
                <a:ea typeface="Times New Roman"/>
              </a:rPr>
              <a:t>And jum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Pristina"/>
              </a:rPr>
              <a:t>Humorou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350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hors add humor to their poetry to make the reader laugh and connect to the po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800600" y="228600"/>
          <a:ext cx="3889440" cy="601344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63262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Our Cat a Jet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our cat a jetp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which I think she liked a l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strapped it on and instan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took off like a sh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zoomed around my bedro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then she blasted down the ha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 ricocheted off every pi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f furniture and wa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dog freaked out and ran a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hamster squeaked and f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even saw my sister hi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underneath her b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Our cat is so fir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almost hate to break the new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She'll never catch our mouse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I bought him rocket powered sho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581040"/>
                          <a:tab algn="l" pos="1162080"/>
                          <a:tab algn="l" pos="1744560"/>
                          <a:tab algn="l" pos="2325600"/>
                          <a:tab algn="l" pos="2908440"/>
                          <a:tab algn="l" pos="3489480"/>
                          <a:tab algn="l" pos="4070520"/>
                          <a:tab algn="l" pos="4653000"/>
                          <a:tab algn="l" pos="5234040"/>
                          <a:tab algn="l" pos="5816520"/>
                          <a:tab algn="l" pos="6397560"/>
                          <a:tab algn="l" pos="6978600"/>
                          <a:tab algn="l" pos="7561440"/>
                          <a:tab algn="l" pos="8142120"/>
                          <a:tab algn="l" pos="8724960"/>
                          <a:tab algn="l" pos="9306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0c0"/>
                          </a:solidFill>
                          <a:latin typeface="Abscissa"/>
                          <a:ea typeface="Times New Roman"/>
                        </a:rPr>
                        <a:t>--Kenn Nesbi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ristina"/>
              </a:rPr>
              <a:t>Poetry may…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 rhyming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illy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e a certain rhythm (fast or s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repeated phrases or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a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 emo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0:35:22Z</dcterms:created>
  <dc:creator>127hollandm</dc:creator>
  <dc:description/>
  <dc:language>en-US</dc:language>
  <cp:lastModifiedBy>127ramirezc</cp:lastModifiedBy>
  <dcterms:modified xsi:type="dcterms:W3CDTF">2009-10-15T12:09:52Z</dcterms:modified>
  <cp:revision>8</cp:revision>
  <dc:subject/>
  <dc:title>Poetry</dc:title>
</cp:coreProperties>
</file>